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8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C3C6C-21FB-481B-94E7-3FB3828A0EA9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DFAF-08B1-482C-89C0-DFDF148B8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17E8-EFC0-49C7-B8E3-A24323DEB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C6059B-1277-4471-ADDA-74BDB701D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56AFE6-64B7-49B6-9D4C-92B82FB90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CB0FE9-A4EC-43E1-94C9-DA4589AB2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099FB9-6F8E-4843-9885-5721798EA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5AC2AF-2A16-4707-A6C3-11941923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1AB514-21BD-455F-A6E2-A5FDE47B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8FD430-4D89-4D99-B93B-CB87532C8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C68AFD-3543-405B-9495-2A9F751BF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A50C9E-F0D3-4A7A-91A4-0130E1EEF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4AFA83-F36C-41C6-B6EE-47E591E3A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8E30-05A5-40ED-BFC8-91C5A24D4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344560-5B1E-45CB-A714-8A99BEFEF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75DA5A-41DD-480A-9159-A05D1CD5C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E338C5-D5DA-49ED-9493-EDA95B1EF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F7FE38-9F32-4366-8413-BC649D02D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300B6B-B1D8-4721-BC5D-50EDF67A8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F1B2AD-C9CC-47CD-9222-31EB1B2A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CA8758-C330-4244-8A11-B63509BA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6C30A2-C634-4A91-B5CC-504142FA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E04873-B703-4ED9-8BFF-6F76390F9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C29421-032D-4B8F-A34D-29118514E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BFBB-EEFF-4B00-B736-03459668B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60127E-9B7D-4882-9C29-3A636EBED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B67855-42A0-4BB9-9FD1-1B4206D99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656835-B714-49B5-B847-79829E4BE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6F9B86-1F48-458F-A73D-996834CBE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520FF1-2F4D-498E-AABE-387800861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FF2AC3-D3C9-42ED-95D4-7847B76D4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1335F7-9BFD-4175-8365-29E2C536E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6935CB-9D8F-4A0A-A01F-388A1814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A45168-D16F-4ACC-AD16-006E4EFB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624936-AC71-41DC-86E9-6914A839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C1B70-18DE-47F0-A345-4BD16C40E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E6768D-10A6-4955-8689-49A648A2A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08F951-6786-4DBF-B626-5F87EB8C2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91F7FB-ECCC-46CF-BC1C-100F4607C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4BA6EE-24EF-4B1A-B1D1-543F5F58C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AF0A86-AA67-4CB4-B9F8-44E721BA8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D83583-7C41-4E4D-9F06-EB7694CA9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0F4FF9-C2D2-4118-97E6-60BEAFC92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FCBB54-6D04-4043-AFAD-F0A2663A0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27AD79-16B9-467C-A10D-CB8CF88BF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EE7F55-E167-43EF-B10D-B290798B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A2FFC-D2CF-4CEC-A1F2-E6C4E6491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397D89-3528-4A2B-A46A-3A5DC40B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9B993C-9DE1-4EFF-9C3E-C811DD29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86C4A9-7515-48B2-A594-D8A41AF5C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6417FF-4A7F-476B-BB24-EF22BC513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6C0E20-7DAF-4DBE-94AB-43227F8E2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F64D770-9313-46D7-A512-1873AC70E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C764638-B08D-41D6-B44B-263AD7D59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BF10419-A473-44BE-A129-BFEBCF4AA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C9F6A15-F144-45B4-986A-C3859189C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41C59A7-EFF0-423D-9788-FFA0B17C3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6C356-40A7-4B0F-A7BC-414EF6BCE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6DFF946-CFA3-4843-8EC6-A3FCAC55C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04CA83D-C341-42C0-927B-535EA972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8F23D4A-9E24-4694-A532-F2D4980C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820700D-A70F-40C8-8D0A-EC8D9D2A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7A3BB32-4EF0-48F6-AF45-4605FC0D8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A234844-AE4B-431C-A25F-26BB4FD5C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70E7788-0D44-4840-8557-561A00E6E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10AE5-A1DC-4474-93BB-8A0469B4D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F9DE3-BA63-4EE7-9B25-9B6FF2A2E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69118-A01C-45A0-9892-0E4412758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E032A-50D9-4E68-9CB8-C17D396B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DA19-9996-4108-B0B8-5F6AC7B76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6EE88-8392-4590-BC05-16AE56AC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942B2-57FB-4333-8665-2035AB36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FA88F-3ABD-4731-B431-15B9E53BE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D767C-BB6C-41C1-8721-E5F777718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FE10B-6DB5-48BF-93B7-EDCAFD7BF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74462-70C9-46DB-B473-52AD980F4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FC046-7A14-4CC2-B86B-254B9CFBB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20A38-AE4C-40F6-9778-53539A5B1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F64D6-FD0C-41A5-877A-0FBA9638C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B79C0-805A-4BC6-8B4A-7112A7C6D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E859-B444-4C6B-B94B-75202C39D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6B9DC-FE00-4C96-B12C-E2B1C353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084DA-B02D-44A8-8B22-4DABA8C6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D8A94-672F-458B-9E98-77D0C6A1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298F7-1B05-440D-AFF0-1A37E362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12B20-5CDC-43A2-95AE-9DBCC5E4E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27D36-ABAD-4B01-B8D7-6B10447A2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E30C6-23DE-42AE-8E89-67BFB87E7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FAD12-644E-49EC-B194-74DCCE0E3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0CD00-22E9-44B8-8E8E-3907ABAC6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FC725-10E9-4A09-911B-6FE590A75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8974-C7F1-40B0-8C2E-FFDFB2301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AC557-DEA0-4809-BAC4-2AA5BE320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C2307-5BC1-4498-9C23-EDFFE65E6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EC07E-F37B-4B78-A0F9-FE7988F88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9486E-485D-4D81-8E11-02B1E9C2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08117-9680-4413-8F19-8EE77E4B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966B1-8AB5-48E8-920E-F2B86B8E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14E0A-9DFC-4827-8809-EFFB61560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574BD-EE8F-48E6-8544-84323B276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47CAF-4F2F-4DB1-924A-B6ECBE952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ABD09-3B79-4836-B7DD-2C6F24E35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0A1A-A39A-4381-B1FC-EF7E1A961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0C42E-9CDB-49B2-837D-06987921E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4DE02-BC1E-45D8-84A0-656C14C8B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A90CC-9AFB-46FD-A33D-6F374E976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32DC6-3501-44FB-9422-40FECA6AB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FEC08-2532-4D25-A3F3-24257B876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869EE-7B8A-4773-A68A-083080F2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67B62-07E4-498E-A00E-31B28F30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DCC35-C43F-4A00-97FE-8A50DDDF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62E96-3D21-41F9-A1C0-151042837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55C34-F459-4036-8592-1A3462FFE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D959-C403-4F8D-963B-1219FF4AB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5F0A7-9EF7-468E-83D8-9CA207B1F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A6EE44-E600-4472-8BA9-D7DEC5D6D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6B0F14-C693-4BD3-A347-7891DF397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EC74F6-A80B-4C43-B756-1DC588704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E221B0-25F1-46B9-AAA3-EDF9F1DB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3A9AFD-D0CB-4C5C-9250-F0009C8D8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D0EA2B-0646-4090-B28A-30A6A8DAF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C39CDE-6E19-4948-A7E6-81706C99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16A3D9-B3C9-4DCF-83F8-B68E4812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3D06B2-A177-4E91-BF3A-9C0A9585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A722-B37A-4E07-A128-7A957EE8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1237B6-4B79-48C1-9F2A-D87F13966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3C3AEA-C9E7-4B99-880D-EC7A44712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FCF75C-A47E-4F92-83EE-4FDEF3546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8E6A08-C6E7-4C3B-A40E-BA08F76C3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34EB9-AF1C-40F9-AFDE-D9738A46B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C5C5D3-65A3-4543-B658-B0DEAC665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696E45-D1E4-4AB1-AC1E-EC728C8BF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46032-B3AD-4A75-82EB-4B6B1D834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028FA-0D72-458A-8AD4-82A6385E6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6A08E8-5472-47BA-B189-F16D1B39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DF62-0937-4377-BCAA-089A584D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802618-AC65-43C4-B07E-A4133874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BFCD66-1909-4C34-944B-127137A2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FAB9A-D4E6-49B8-AD24-E7C039508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F6434-A119-4E15-9659-83FE7A2DE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ADEDD-2047-4431-9361-D4811859A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ABF16B-791B-4197-8877-C30AF8289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1D38FF-5843-41D3-A961-223BCC8A4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E892B2-AECF-4C36-B176-4F7CF5828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93254-795D-436C-8C59-86FEE444D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62585F-612B-43B6-A33D-F08727885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6176-B0C9-43EB-BFB3-E18BFF13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126ED4-DF65-4070-9F97-CED5DDF0F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FAD6E0-266C-4F77-8F9A-DDBB1914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327DE6-2F17-4ED6-A555-C816950A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B4B25-A939-4FDF-956C-4C54B0EB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C32D72-8426-45E4-B2C5-3EDDAD205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3543A5-2629-4139-91B8-745B0088D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B0A58F-1F9F-49C7-A2E2-D6BE3F5C3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3CEFFA-ECE0-4265-B52F-2528D0AF2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0B6708-D3A3-47D0-BA26-FB59F854F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120CBD-1B84-4E4B-9CB8-44D7DDC1F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2ED01-49CD-440B-920E-9F7EA9B7ED7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67E22-7A1D-4300-81FE-9420BD83A2B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C65A2-BA4D-4298-B335-DDE17F632E0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8C25C-B782-4EAA-BFA5-D25A1A00ACA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3058E-E7DE-451D-9507-559D82C7E08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DA969-2086-4264-80F3-047AF4B8FAA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2B238-99F1-45D8-81A1-0D8B0D56DCF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F2C9E-2490-407B-B243-4785F48D452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7DBC8-1DC1-46A9-91FE-6FB6C49A8AB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A4EB1-5FBE-4CF5-8348-F99B429FAD6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88C13-E934-4188-8709-94C1990CD05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17490-732E-4442-AA71-9604954F131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0B6AA-FDB3-45F2-9B93-2CB4FCCB729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18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84480" y="2357280"/>
              <a:ext cx="3080880" cy="3357000"/>
              <a:chOff x="384480" y="2357280"/>
              <a:chExt cx="308088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84480" y="2357280"/>
                <a:ext cx="3080880" cy="3357000"/>
                <a:chOff x="384480" y="2357280"/>
                <a:chExt cx="308088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84480" y="2357280"/>
                  <a:ext cx="3080880" cy="3357000"/>
                </a:xfrm>
                <a:custGeom>
                  <a:avLst/>
                  <a:gdLst>
                    <a:gd name="textAreaLeft" fmla="*/ 150120 w 3080880"/>
                    <a:gd name="textAreaRight" fmla="*/ 2930760 w 3080880"/>
                    <a:gd name="textAreaTop" fmla="*/ 150120 h 3357000"/>
                    <a:gd name="textAreaBottom" fmla="*/ 3206880 h 3357000"/>
                  </a:gdLst>
                  <a:ahLst/>
                  <a:rect l="textAreaLeft" t="textAreaTop" r="textAreaRight" b="textAreaBottom"/>
                  <a:pathLst>
                    <a:path w="21600" h="23536">
                      <a:moveTo>
                        <a:pt x="3600" y="0"/>
                      </a:moveTo>
                      <a:arcTo wR="3600" hR="3600" stAng="16200000" swAng="-5400000"/>
                      <a:lnTo>
                        <a:pt x="0" y="19936"/>
                      </a:lnTo>
                      <a:arcTo wR="3600" hR="3600" stAng="10800000" swAng="-5400000"/>
                      <a:lnTo>
                        <a:pt x="18000" y="2353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84480" y="2357280"/>
                  <a:ext cx="57060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55760" y="2441160"/>
                <a:ext cx="2939760" cy="3217680"/>
                <a:chOff x="455760" y="2441160"/>
                <a:chExt cx="293976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55760" y="2441160"/>
                  <a:ext cx="2939760" cy="3217680"/>
                </a:xfrm>
                <a:custGeom>
                  <a:avLst/>
                  <a:gdLst>
                    <a:gd name="textAreaLeft" fmla="*/ 143280 w 2939760"/>
                    <a:gd name="textAreaRight" fmla="*/ 2796480 w 2939760"/>
                    <a:gd name="textAreaTop" fmla="*/ 143280 h 3217680"/>
                    <a:gd name="textAreaBottom" fmla="*/ 3074400 h 3217680"/>
                  </a:gdLst>
                  <a:ahLst/>
                  <a:rect l="textAreaLeft" t="textAreaTop" r="textAreaRight" b="textAreaBottom"/>
                  <a:pathLst>
                    <a:path w="21600" h="23642">
                      <a:moveTo>
                        <a:pt x="3600" y="0"/>
                      </a:moveTo>
                      <a:arcTo wR="3600" hR="3600" stAng="16200000" swAng="-5400000"/>
                      <a:lnTo>
                        <a:pt x="0" y="20042"/>
                      </a:lnTo>
                      <a:arcTo wR="3600" hR="3600" stAng="10800000" swAng="-5400000"/>
                      <a:lnTo>
                        <a:pt x="18000" y="2364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55760" y="2441160"/>
                  <a:ext cx="54468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94360" y="3143160"/>
                <a:ext cx="263772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28760" y="2401560"/>
              <a:ext cx="21394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357120" y="3315960"/>
              <a:ext cx="314316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31360" y="234468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특수 아동의 유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34320" y="3267000"/>
            <a:ext cx="22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미국 장애인 교육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37320" y="418788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 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6ECA3-EF95-4740-8FCC-FDB50D7BDE9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175360" y="506520"/>
            <a:ext cx="372420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4" name=""/>
          <p:cNvGraphicFramePr/>
          <p:nvPr/>
        </p:nvGraphicFramePr>
        <p:xfrm>
          <a:off x="714240" y="3214800"/>
          <a:ext cx="7858440" cy="3132000"/>
        </p:xfrm>
        <a:graphic>
          <a:graphicData uri="http://schemas.openxmlformats.org/drawingml/2006/table">
            <a:tbl>
              <a:tblPr/>
              <a:tblGrid>
                <a:gridCol w="1546200"/>
                <a:gridCol w="63122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영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 이상이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분야에서 탁월한 재능을 보이는 학습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지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유의하게 낮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Q 70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적응행동 결손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실용적 및 사회적 지능이 있는 장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높지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교과의 학습이나 인지과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;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언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메타인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에 문제가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ADH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의력결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과잉활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충동성 등의 특징을 갖고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EBB93-5187-43F2-A572-D24BCCAC606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8" name="직사각형 14"/>
              <p:cNvSpPr/>
              <p:nvPr/>
            </p:nvSpPr>
            <p:spPr>
              <a:xfrm>
                <a:off x="1468440" y="138600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특수학습자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43"/>
          <p:cNvGrpSpPr/>
          <p:nvPr/>
        </p:nvGrpSpPr>
        <p:grpSpPr>
          <a:xfrm>
            <a:off x="571680" y="1876320"/>
            <a:ext cx="8072280" cy="1452240"/>
            <a:chOff x="571680" y="1876320"/>
            <a:chExt cx="8072280" cy="1452240"/>
          </a:xfrm>
        </p:grpSpPr>
        <p:pic>
          <p:nvPicPr>
            <p:cNvPr id="797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2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8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799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0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직사각형 19"/>
            <p:cNvSpPr/>
            <p:nvPr/>
          </p:nvSpPr>
          <p:spPr>
            <a:xfrm>
              <a:off x="928800" y="200016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수학습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ceptional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learner)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능력이 특별히 높거나 반대로 능력이 특별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낮은 학습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 및 행동의 측면에서 정상범주에서 이탈된 학습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TextBox 9" descr=""/>
          <p:cNvPicPr/>
          <p:nvPr/>
        </p:nvPicPr>
        <p:blipFill>
          <a:blip r:embed="rId1"/>
          <a:stretch/>
        </p:blipFill>
        <p:spPr>
          <a:xfrm>
            <a:off x="5181480" y="506520"/>
            <a:ext cx="359748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3" name=""/>
          <p:cNvGraphicFramePr/>
          <p:nvPr/>
        </p:nvGraphicFramePr>
        <p:xfrm>
          <a:off x="635040" y="1928880"/>
          <a:ext cx="7873920" cy="4513320"/>
        </p:xfrm>
        <a:graphic>
          <a:graphicData uri="http://schemas.openxmlformats.org/drawingml/2006/table">
            <a:tbl>
              <a:tblPr/>
              <a:tblGrid>
                <a:gridCol w="1650960"/>
                <a:gridCol w="6222960"/>
              </a:tblGrid>
              <a:tr h="37152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90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말하기 및 소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업수행을 심각하게 방해하는 말 혹은 언어이해의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서 및 행동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간 지속되고 학업을 심각하게 방해하는 정서 혹은 행동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폐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상호작용 및 소통의 손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반복적인 행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정된 흥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측가능한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환경에 대한 강박적인 요구를 특징으로 하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체 및 건강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제한된 에너지와 활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적 민감성의 둔화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육의 통제 결여 중 하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상의 특징을 갖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있는 신체 혹은 의학적 조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각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시지각을 방해하는 눈 혹은 시신경의 기능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각 상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말의 빈도 범위에서 소리지각을 방해하는 귀 혹은 관련 신경의 기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B5941-5284-4513-BBFA-98F272BBF47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06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C868E-153B-426A-8F16-271F19C9BA3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0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09" name="직사각형 14"/>
              <p:cNvSpPr/>
              <p:nvPr/>
            </p:nvSpPr>
            <p:spPr>
              <a:xfrm>
                <a:off x="1504080" y="1386000"/>
                <a:ext cx="159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미국 장애인 교육법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3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그룹 43"/>
          <p:cNvGrpSpPr/>
          <p:nvPr/>
        </p:nvGrpSpPr>
        <p:grpSpPr>
          <a:xfrm>
            <a:off x="571680" y="1876320"/>
            <a:ext cx="8072280" cy="695520"/>
            <a:chOff x="571680" y="1876320"/>
            <a:chExt cx="8072280" cy="695520"/>
          </a:xfrm>
        </p:grpSpPr>
        <p:pic>
          <p:nvPicPr>
            <p:cNvPr id="81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695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9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82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1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2" name="직사각형 19"/>
            <p:cNvSpPr/>
            <p:nvPr/>
          </p:nvSpPr>
          <p:spPr>
            <a:xfrm>
              <a:off x="928800" y="200016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975</a:t>
              </a: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년 장애 학생이 무상 공교육을 받을 수 있도록 제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직사각형 16"/>
          <p:cNvSpPr/>
          <p:nvPr/>
        </p:nvSpPr>
        <p:spPr>
          <a:xfrm>
            <a:off x="285840" y="2890800"/>
            <a:ext cx="857232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무상의 적절한 공교육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Free Appropriate Public Education: FAP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에게 무상으로 적절한 공교육 제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교육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인에게 교육적 수혜를 제공하기 위해 특별히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  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별적으로 고안된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통합을 향한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Mainstream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의 선택된 활동만을 위해서라도 특수학생들을 분리된 학급에서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규 학급으로 이동시키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점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 등이 종종 필요한 조력을 받을 수 없는 교실에 배치됨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2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D8283-2BA9-4D7A-A99E-F654FA14E26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직사각형 16"/>
          <p:cNvSpPr/>
          <p:nvPr/>
        </p:nvSpPr>
        <p:spPr>
          <a:xfrm>
            <a:off x="142920" y="1857240"/>
            <a:ext cx="892980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Least Restrictive Environment : LRE)</a:t>
            </a:r>
            <a:r>
              <a:rPr b="0" lang="en-US" sz="17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의 문제점에 대한 대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buClr>
                <a:srgbClr val="424456"/>
              </a:buClr>
              <a:buFont typeface="휴먼모음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특수한 욕구를 만족시키면서 가능한 한 일반학교에 배치하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일제로 일반학급에 배치하는 것으로부터 분리 시설에 수용하는 것까지의 연속상의 서비스로 구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응적 일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이 특정학교에서 요구를 충족시킬 수 있는 정도와 학교가 욕구를 충족시킬 수 있는 정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LRE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의 중심 개념으로 특수학생의 교육을 위한 개별화 접근을 중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28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B630F-5991-46C8-ACCF-C3EEE7A2DB1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0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1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5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3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7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8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40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41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42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3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직사각형 16"/>
          <p:cNvSpPr/>
          <p:nvPr/>
        </p:nvSpPr>
        <p:spPr>
          <a:xfrm>
            <a:off x="285840" y="2786040"/>
            <a:ext cx="8572320" cy="39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전략 원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들의 학습을 증진시틸 효과적 교수방법 사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의 필요에 맞는 수업 활동 및 과제 설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 욕구 충족 위한 조정된 독서 자료 준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전략을  적극적으로 가르칠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성장과 교실 내 통합을 위한 계획 실행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지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체 학생이 제자리에서 개별 과제 수행 시에도 교사가 개인적으로 혹은 소그룹 학생과 과제 수행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가적인 조정사항의 예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5.4&gt; p. 2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4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BC394-C30A-4928-8D52-60FF7217554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50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4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5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0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6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2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16"/>
          <p:cNvSpPr/>
          <p:nvPr/>
        </p:nvSpPr>
        <p:spPr>
          <a:xfrm>
            <a:off x="285840" y="2786040"/>
            <a:ext cx="8572320" cy="33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행동을 학습하도록 돕기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 개선의 두 가지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담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응용행동분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코치와 시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호작용과 협력을 증진시키기 위한 전략들 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학생만큼 특수학생도 자주 호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협동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또래 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조적 테크놀로지 활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28T00:35:24Z</dcterms:modified>
  <cp:revision>363</cp:revision>
  <dc:subject/>
  <dc:title>PowerPoint Template</dc:title>
</cp:coreProperties>
</file>